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A59-6594-4F3D-8F94-0DA3141A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EF1-0072-4E2E-9C47-D55C8A7B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779-FE17-414D-9F6F-B94E36C8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C22-914E-415D-AE97-B071E336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E08-3B8D-45D6-9077-93554FF0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BBF-EB54-4F48-BD8D-DD2A6D4C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4E3-74C2-428A-BB0E-54BDC54F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AF1-A397-4F23-B875-731E1DD6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F58-5E5C-43AD-9CD6-C6C39D76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470-ABEB-439B-AED7-B213BED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CCE-BB97-4D08-82A0-06ED005E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83B-36C4-4FB6-8223-7C9CD8FE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A734-FF9E-4A4B-BED4-5835FFA74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7920" y="2514600"/>
            <a:ext cx="63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Photography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80680" y="198108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lare Murphy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73800" y="38862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eni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97600" cy="4427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6520" y="1295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Monotype Corsiva"/>
              </a:rPr>
              <a:t>Photography Portfo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4114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Monotype Corsiva"/>
              </a:rPr>
              <a:t>Clare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Mac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2720880" cy="4124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416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21337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Monotype Corsiva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Broken and Scrap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151440" cy="382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8102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Patterns and Tex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129200" cy="267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106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Digital Ligh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419720" cy="294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149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Digital Ligh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Digital Water Dro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7017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Digital Water Dro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Phot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136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Mac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116240" cy="2706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4102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21:09:43Z</dcterms:created>
  <dc:creator>bal_dcmurphy</dc:creator>
  <dc:description/>
  <dc:language>en-US</dc:language>
  <cp:lastModifiedBy>C</cp:lastModifiedBy>
  <dcterms:modified xsi:type="dcterms:W3CDTF">2009-05-22T22:13:32Z</dcterms:modified>
  <cp:revision>10</cp:revision>
  <dc:subject/>
  <dc:title>Slide 1</dc:title>
</cp:coreProperties>
</file>